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4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除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277920" y="2317680"/>
            <a:ext cx="638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两个未知数的和倍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436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52560" y="4503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84560" y="49417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6"/>
          <p:cNvSpPr/>
          <p:nvPr/>
        </p:nvSpPr>
        <p:spPr>
          <a:xfrm>
            <a:off x="1116000" y="2060640"/>
            <a:ext cx="2735280" cy="647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1405080" y="2827440"/>
            <a:ext cx="31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衣和裤子各多少钱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4"/>
          <p:cNvSpPr/>
          <p:nvPr/>
        </p:nvSpPr>
        <p:spPr>
          <a:xfrm>
            <a:off x="828720" y="1557360"/>
            <a:ext cx="72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42880" y="3676680"/>
            <a:ext cx="8371080" cy="6280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71280" y="3746520"/>
            <a:ext cx="5643720" cy="2434320"/>
            <a:chOff x="71280" y="3746520"/>
            <a:chExt cx="5643720" cy="2434320"/>
          </a:xfrm>
        </p:grpSpPr>
        <p:grpSp>
          <p:nvGrpSpPr>
            <p:cNvPr id="371" name=""/>
            <p:cNvGrpSpPr/>
            <p:nvPr/>
          </p:nvGrpSpPr>
          <p:grpSpPr>
            <a:xfrm>
              <a:off x="71280" y="3746520"/>
              <a:ext cx="5643720" cy="2434320"/>
              <a:chOff x="71280" y="3746520"/>
              <a:chExt cx="5643720" cy="243432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1280" y="3746520"/>
                <a:ext cx="5643720" cy="2434320"/>
                <a:chOff x="71280" y="3746520"/>
                <a:chExt cx="5643720" cy="243432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1463400" y="4421160"/>
                  <a:ext cx="3241440" cy="82080"/>
                  <a:chOff x="1463400" y="4421160"/>
                  <a:chExt cx="3241440" cy="82080"/>
                </a:xfrm>
              </p:grpSpPr>
              <p:sp>
                <p:nvSpPr>
                  <p:cNvPr id="374" name="Line 46"/>
                  <p:cNvSpPr/>
                  <p:nvPr/>
                </p:nvSpPr>
                <p:spPr>
                  <a:xfrm>
                    <a:off x="1463400" y="4492440"/>
                    <a:ext cx="324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47"/>
                  <p:cNvSpPr/>
                  <p:nvPr/>
                </p:nvSpPr>
                <p:spPr>
                  <a:xfrm>
                    <a:off x="1463400" y="4433400"/>
                    <a:ext cx="0" cy="69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50"/>
                  <p:cNvSpPr/>
                  <p:nvPr/>
                </p:nvSpPr>
                <p:spPr>
                  <a:xfrm>
                    <a:off x="2543400" y="442116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51"/>
                  <p:cNvSpPr/>
                  <p:nvPr/>
                </p:nvSpPr>
                <p:spPr>
                  <a:xfrm>
                    <a:off x="3625200" y="442116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52"/>
                  <p:cNvSpPr/>
                  <p:nvPr/>
                </p:nvSpPr>
                <p:spPr>
                  <a:xfrm>
                    <a:off x="4704840" y="4421160"/>
                    <a:ext cx="0" cy="6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" name="Line 55"/>
                <p:cNvSpPr/>
                <p:nvPr/>
              </p:nvSpPr>
              <p:spPr>
                <a:xfrm>
                  <a:off x="1463400" y="5557680"/>
                  <a:ext cx="2162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Text Box 60"/>
                <p:cNvSpPr/>
                <p:nvPr/>
              </p:nvSpPr>
              <p:spPr>
                <a:xfrm>
                  <a:off x="71280" y="4213080"/>
                  <a:ext cx="17636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上衣价钱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61"/>
                <p:cNvSpPr/>
                <p:nvPr/>
              </p:nvSpPr>
              <p:spPr>
                <a:xfrm>
                  <a:off x="71280" y="5284800"/>
                  <a:ext cx="2413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裤子价钱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62"/>
                <p:cNvSpPr/>
                <p:nvPr/>
              </p:nvSpPr>
              <p:spPr>
                <a:xfrm rot="16200000">
                  <a:off x="2977920" y="2649240"/>
                  <a:ext cx="212760" cy="324180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84240 h 3241800"/>
                    <a:gd name="textAreaBottom" fmla="*/ 3157560 h 3241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63"/>
                <p:cNvSpPr/>
                <p:nvPr/>
              </p:nvSpPr>
              <p:spPr>
                <a:xfrm>
                  <a:off x="2627280" y="3746520"/>
                  <a:ext cx="944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AutoShape 64"/>
                <p:cNvSpPr/>
                <p:nvPr/>
              </p:nvSpPr>
              <p:spPr>
                <a:xfrm rot="16200000">
                  <a:off x="2437920" y="4298400"/>
                  <a:ext cx="212760" cy="216216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56160 h 2162160"/>
                    <a:gd name="textAreaBottom" fmla="*/ 2106000 h 216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450880" y="4700520"/>
                  <a:ext cx="238320" cy="59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6" name="AutoShape 72"/>
                <p:cNvSpPr/>
                <p:nvPr/>
              </p:nvSpPr>
              <p:spPr>
                <a:xfrm rot="5400000">
                  <a:off x="2977560" y="3049560"/>
                  <a:ext cx="212760" cy="324180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84240 h 3241800"/>
                    <a:gd name="textAreaBottom" fmla="*/ 3157560 h 3241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73"/>
                <p:cNvSpPr/>
                <p:nvPr/>
              </p:nvSpPr>
              <p:spPr>
                <a:xfrm>
                  <a:off x="2833560" y="4681440"/>
                  <a:ext cx="720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？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74"/>
                <p:cNvSpPr/>
                <p:nvPr/>
              </p:nvSpPr>
              <p:spPr>
                <a:xfrm rot="5400000">
                  <a:off x="2438280" y="4653000"/>
                  <a:ext cx="212400" cy="2162160"/>
                </a:xfrm>
                <a:custGeom>
                  <a:avLst/>
                  <a:gdLst>
                    <a:gd name="textAreaLeft" fmla="*/ 0 w 212400"/>
                    <a:gd name="textAreaRight" fmla="*/ 76680 w 212400"/>
                    <a:gd name="textAreaTop" fmla="*/ 56160 h 2162160"/>
                    <a:gd name="textAreaBottom" fmla="*/ 2106000 h 216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75"/>
                <p:cNvSpPr/>
                <p:nvPr/>
              </p:nvSpPr>
              <p:spPr>
                <a:xfrm>
                  <a:off x="2328840" y="5757840"/>
                  <a:ext cx="7221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？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79"/>
                <p:cNvSpPr/>
                <p:nvPr/>
              </p:nvSpPr>
              <p:spPr>
                <a:xfrm>
                  <a:off x="4776480" y="4395960"/>
                  <a:ext cx="142920" cy="1439640"/>
                </a:xfrm>
                <a:custGeom>
                  <a:avLst/>
                  <a:gdLst>
                    <a:gd name="textAreaLeft" fmla="*/ 0 w 142920"/>
                    <a:gd name="textAreaRight" fmla="*/ 51480 w 142920"/>
                    <a:gd name="textAreaTop" fmla="*/ 37440 h 1439640"/>
                    <a:gd name="textAreaBottom" fmla="*/ 1402200 h 143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80"/>
                <p:cNvSpPr/>
                <p:nvPr/>
              </p:nvSpPr>
              <p:spPr>
                <a:xfrm>
                  <a:off x="4849560" y="4873680"/>
                  <a:ext cx="8654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00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Line 69"/>
              <p:cNvSpPr/>
              <p:nvPr/>
            </p:nvSpPr>
            <p:spPr>
              <a:xfrm>
                <a:off x="3625560" y="5499000"/>
                <a:ext cx="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71"/>
              <p:cNvSpPr/>
              <p:nvPr/>
            </p:nvSpPr>
            <p:spPr>
              <a:xfrm>
                <a:off x="2546280" y="5486400"/>
                <a:ext cx="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Line 70"/>
            <p:cNvSpPr/>
            <p:nvPr/>
          </p:nvSpPr>
          <p:spPr>
            <a:xfrm>
              <a:off x="1463400" y="54990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48"/>
          <p:cNvSpPr/>
          <p:nvPr/>
        </p:nvSpPr>
        <p:spPr>
          <a:xfrm>
            <a:off x="5291280" y="3284640"/>
            <a:ext cx="367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衣价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裤子价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157320" y="3403440"/>
            <a:ext cx="154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5003640" y="323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427800" y="1522440"/>
            <a:ext cx="1673280" cy="16192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4775040" y="1606680"/>
            <a:ext cx="1525680" cy="180000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27"/>
          <p:cNvSpPr/>
          <p:nvPr/>
        </p:nvSpPr>
        <p:spPr>
          <a:xfrm>
            <a:off x="1403280" y="1450800"/>
            <a:ext cx="3168720" cy="1224000"/>
          </a:xfrm>
          <a:prstGeom prst="wedgeRoundRectCallout">
            <a:avLst>
              <a:gd name="adj1" fmla="val 57666"/>
              <a:gd name="adj2" fmla="val 455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套运动服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裤子价钱是上衣的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93960" y="1895400"/>
            <a:ext cx="511200" cy="778680"/>
            <a:chOff x="3693960" y="1895400"/>
            <a:chExt cx="511200" cy="778680"/>
          </a:xfrm>
        </p:grpSpPr>
        <p:sp>
          <p:nvSpPr>
            <p:cNvPr id="402" name=""/>
            <p:cNvSpPr/>
            <p:nvPr/>
          </p:nvSpPr>
          <p:spPr>
            <a:xfrm>
              <a:off x="3700440" y="22510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93960" y="18954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09800" y="23144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249880" y="3645000"/>
            <a:ext cx="3714840" cy="3159720"/>
            <a:chOff x="5249880" y="3645000"/>
            <a:chExt cx="3714840" cy="3159720"/>
          </a:xfrm>
        </p:grpSpPr>
        <p:sp>
          <p:nvSpPr>
            <p:cNvPr id="406" name="TextBox 22"/>
            <p:cNvSpPr/>
            <p:nvPr/>
          </p:nvSpPr>
          <p:spPr>
            <a:xfrm>
              <a:off x="5249880" y="3645000"/>
              <a:ext cx="3714840" cy="27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：设上衣的价钱为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元，则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子的价钱为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 ×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7108920" y="4013280"/>
              <a:ext cx="511200" cy="778680"/>
              <a:chOff x="7108920" y="4013280"/>
              <a:chExt cx="511200" cy="778680"/>
            </a:xfrm>
          </p:grpSpPr>
          <p:sp>
            <p:nvSpPr>
              <p:cNvPr id="408" name=""/>
              <p:cNvSpPr/>
              <p:nvPr/>
            </p:nvSpPr>
            <p:spPr>
              <a:xfrm>
                <a:off x="7115400" y="43689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108920" y="4013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24760" y="44323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354720" y="4411800"/>
              <a:ext cx="511200" cy="778680"/>
              <a:chOff x="6354720" y="4411800"/>
              <a:chExt cx="511200" cy="778680"/>
            </a:xfrm>
          </p:grpSpPr>
          <p:sp>
            <p:nvSpPr>
              <p:cNvPr id="412" name=""/>
              <p:cNvSpPr/>
              <p:nvPr/>
            </p:nvSpPr>
            <p:spPr>
              <a:xfrm>
                <a:off x="6361200" y="47674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54720" y="44118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70560" y="48308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315120" y="5140440"/>
              <a:ext cx="511200" cy="778680"/>
              <a:chOff x="6315120" y="5140440"/>
              <a:chExt cx="511200" cy="778680"/>
            </a:xfrm>
          </p:grpSpPr>
          <p:sp>
            <p:nvSpPr>
              <p:cNvPr id="416" name=""/>
              <p:cNvSpPr/>
              <p:nvPr/>
            </p:nvSpPr>
            <p:spPr>
              <a:xfrm>
                <a:off x="6321600" y="54961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15120" y="51404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30960" y="55594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977160" y="6026400"/>
              <a:ext cx="511200" cy="778320"/>
              <a:chOff x="6977160" y="6026400"/>
              <a:chExt cx="511200" cy="778320"/>
            </a:xfrm>
          </p:grpSpPr>
          <p:sp>
            <p:nvSpPr>
              <p:cNvPr id="420" name=""/>
              <p:cNvSpPr/>
              <p:nvPr/>
            </p:nvSpPr>
            <p:spPr>
              <a:xfrm>
                <a:off x="6983640" y="6381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77160" y="60264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93000" y="6445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66600" y="692280"/>
            <a:ext cx="5648040" cy="5326200"/>
            <a:chOff x="66600" y="692280"/>
            <a:chExt cx="5648040" cy="5326200"/>
          </a:xfrm>
        </p:grpSpPr>
        <p:grpSp>
          <p:nvGrpSpPr>
            <p:cNvPr id="424" name=""/>
            <p:cNvGrpSpPr/>
            <p:nvPr/>
          </p:nvGrpSpPr>
          <p:grpSpPr>
            <a:xfrm>
              <a:off x="66600" y="692280"/>
              <a:ext cx="5648040" cy="5326200"/>
              <a:chOff x="66600" y="692280"/>
              <a:chExt cx="5648040" cy="53262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1366920" y="692280"/>
                <a:ext cx="3253680" cy="4636800"/>
                <a:chOff x="1366920" y="692280"/>
                <a:chExt cx="3253680" cy="463680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1366920" y="692280"/>
                  <a:ext cx="3253680" cy="4636800"/>
                  <a:chOff x="1366920" y="692280"/>
                  <a:chExt cx="3253680" cy="4636800"/>
                </a:xfrm>
              </p:grpSpPr>
              <p:sp>
                <p:nvSpPr>
                  <p:cNvPr id="427" name="Line 57"/>
                  <p:cNvSpPr/>
                  <p:nvPr/>
                </p:nvSpPr>
                <p:spPr>
                  <a:xfrm>
                    <a:off x="1366920" y="5329080"/>
                    <a:ext cx="32407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58"/>
                  <p:cNvSpPr/>
                  <p:nvPr/>
                </p:nvSpPr>
                <p:spPr>
                  <a:xfrm>
                    <a:off x="137952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59"/>
                  <p:cNvSpPr/>
                  <p:nvPr/>
                </p:nvSpPr>
                <p:spPr>
                  <a:xfrm>
                    <a:off x="245952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60"/>
                  <p:cNvSpPr/>
                  <p:nvPr/>
                </p:nvSpPr>
                <p:spPr>
                  <a:xfrm>
                    <a:off x="354096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61"/>
                  <p:cNvSpPr/>
                  <p:nvPr/>
                </p:nvSpPr>
                <p:spPr>
                  <a:xfrm>
                    <a:off x="462060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Line 69"/>
                <p:cNvSpPr/>
                <p:nvPr/>
              </p:nvSpPr>
              <p:spPr>
                <a:xfrm>
                  <a:off x="3541320" y="4038480"/>
                  <a:ext cx="0" cy="82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71"/>
                <p:cNvSpPr/>
                <p:nvPr/>
              </p:nvSpPr>
              <p:spPr>
                <a:xfrm>
                  <a:off x="2462040" y="4038480"/>
                  <a:ext cx="0" cy="82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59"/>
                <p:cNvSpPr/>
                <p:nvPr/>
              </p:nvSpPr>
              <p:spPr>
                <a:xfrm>
                  <a:off x="3571560" y="5252760"/>
                  <a:ext cx="0" cy="74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6600" y="3382560"/>
                <a:ext cx="5648040" cy="2635920"/>
                <a:chOff x="66600" y="3382560"/>
                <a:chExt cx="5648040" cy="263592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66600" y="3382560"/>
                  <a:ext cx="5648040" cy="2635920"/>
                  <a:chOff x="66600" y="3382560"/>
                  <a:chExt cx="5648040" cy="2635920"/>
                </a:xfrm>
              </p:grpSpPr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66600" y="3382560"/>
                    <a:ext cx="4553640" cy="2635920"/>
                    <a:chOff x="66600" y="3382560"/>
                    <a:chExt cx="4553640" cy="2635920"/>
                  </a:xfrm>
                </p:grpSpPr>
                <p:sp>
                  <p:nvSpPr>
                    <p:cNvPr id="438" name="Text Box 63"/>
                    <p:cNvSpPr/>
                    <p:nvPr/>
                  </p:nvSpPr>
                  <p:spPr>
                    <a:xfrm>
                      <a:off x="66600" y="4998600"/>
                      <a:ext cx="18414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衣价钱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Text Box 64"/>
                    <p:cNvSpPr/>
                    <p:nvPr/>
                  </p:nvSpPr>
                  <p:spPr>
                    <a:xfrm>
                      <a:off x="88920" y="3789000"/>
                      <a:ext cx="20689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裤子价钱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Line 62"/>
                    <p:cNvSpPr/>
                    <p:nvPr/>
                  </p:nvSpPr>
                  <p:spPr>
                    <a:xfrm>
                      <a:off x="1383840" y="4120920"/>
                      <a:ext cx="2169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Text Box 66"/>
                    <p:cNvSpPr/>
                    <p:nvPr/>
                  </p:nvSpPr>
                  <p:spPr>
                    <a:xfrm>
                      <a:off x="2014560" y="3382560"/>
                      <a:ext cx="12726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AutoShape 67"/>
                    <p:cNvSpPr/>
                    <p:nvPr/>
                  </p:nvSpPr>
                  <p:spPr>
                    <a:xfrm rot="16200000">
                      <a:off x="2331000" y="2799720"/>
                      <a:ext cx="243000" cy="2169360"/>
                    </a:xfrm>
                    <a:custGeom>
                      <a:avLst/>
                      <a:gdLst>
                        <a:gd name="textAreaLeft" fmla="*/ 0 w 243000"/>
                        <a:gd name="textAreaRight" fmla="*/ 87840 w 243000"/>
                        <a:gd name="textAreaTop" fmla="*/ 56520 h 2169360"/>
                        <a:gd name="textAreaBottom" fmla="*/ 2112840 h 2169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72"/>
                    <p:cNvSpPr/>
                    <p:nvPr/>
                  </p:nvSpPr>
                  <p:spPr>
                    <a:xfrm rot="5400000">
                      <a:off x="2872440" y="3911400"/>
                      <a:ext cx="243000" cy="3252600"/>
                    </a:xfrm>
                    <a:custGeom>
                      <a:avLst/>
                      <a:gdLst>
                        <a:gd name="textAreaLeft" fmla="*/ 0 w 243000"/>
                        <a:gd name="textAreaRight" fmla="*/ 87840 w 243000"/>
                        <a:gd name="textAreaTop" fmla="*/ 84600 h 3252600"/>
                        <a:gd name="textAreaBottom" fmla="*/ 3168000 h 3252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Text Box 73"/>
                    <p:cNvSpPr/>
                    <p:nvPr/>
                  </p:nvSpPr>
                  <p:spPr>
                    <a:xfrm>
                      <a:off x="2758680" y="5595480"/>
                      <a:ext cx="72288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？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74"/>
                    <p:cNvSpPr/>
                    <p:nvPr/>
                  </p:nvSpPr>
                  <p:spPr>
                    <a:xfrm rot="5400000">
                      <a:off x="2331360" y="3200400"/>
                      <a:ext cx="242640" cy="2169360"/>
                    </a:xfrm>
                    <a:custGeom>
                      <a:avLst/>
                      <a:gdLst>
                        <a:gd name="textAreaLeft" fmla="*/ 0 w 242640"/>
                        <a:gd name="textAreaRight" fmla="*/ 87480 w 242640"/>
                        <a:gd name="textAreaTop" fmla="*/ 56520 h 2169360"/>
                        <a:gd name="textAreaBottom" fmla="*/ 2112840 h 2169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Text Box 75"/>
                    <p:cNvSpPr/>
                    <p:nvPr/>
                  </p:nvSpPr>
                  <p:spPr>
                    <a:xfrm>
                      <a:off x="2226600" y="4311360"/>
                      <a:ext cx="72468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？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AutoShape 67"/>
                    <p:cNvSpPr/>
                    <p:nvPr/>
                  </p:nvSpPr>
                  <p:spPr>
                    <a:xfrm rot="16200000">
                      <a:off x="2877480" y="3472920"/>
                      <a:ext cx="162000" cy="3225960"/>
                    </a:xfrm>
                    <a:custGeom>
                      <a:avLst/>
                      <a:gdLst>
                        <a:gd name="textAreaLeft" fmla="*/ 0 w 162000"/>
                        <a:gd name="textAreaRight" fmla="*/ 58320 w 162000"/>
                        <a:gd name="textAreaTop" fmla="*/ 37440 h 3225960"/>
                        <a:gd name="textAreaBottom" fmla="*/ 3188520 h 3225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402"/>
                            <a:pt x="10800" y="804"/>
                          </a:cubicBezTo>
                          <a:lnTo>
                            <a:pt x="10800" y="9996"/>
                          </a:lnTo>
                          <a:cubicBezTo>
                            <a:pt x="10800" y="10398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202"/>
                            <a:pt x="10800" y="11604"/>
                          </a:cubicBezTo>
                          <a:lnTo>
                            <a:pt x="10800" y="20796"/>
                          </a:lnTo>
                          <a:cubicBezTo>
                            <a:pt x="10800" y="21198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4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30760" y="4449240"/>
                      <a:ext cx="22284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4597200" y="3803400"/>
                    <a:ext cx="1117440" cy="1544400"/>
                    <a:chOff x="4597200" y="3803400"/>
                    <a:chExt cx="1117440" cy="1544400"/>
                  </a:xfrm>
                </p:grpSpPr>
                <p:sp>
                  <p:nvSpPr>
                    <p:cNvPr id="450" name="AutoShape 76"/>
                    <p:cNvSpPr/>
                    <p:nvPr/>
                  </p:nvSpPr>
                  <p:spPr>
                    <a:xfrm>
                      <a:off x="4697280" y="3803400"/>
                      <a:ext cx="141120" cy="1544400"/>
                    </a:xfrm>
                    <a:custGeom>
                      <a:avLst/>
                      <a:gdLst>
                        <a:gd name="textAreaLeft" fmla="*/ 0 w 141120"/>
                        <a:gd name="textAreaRight" fmla="*/ 50760 w 141120"/>
                        <a:gd name="textAreaTop" fmla="*/ 39960 h 1544400"/>
                        <a:gd name="textAreaBottom" fmla="*/ 1504440 h 15444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Text Box 77"/>
                    <p:cNvSpPr/>
                    <p:nvPr/>
                  </p:nvSpPr>
                  <p:spPr>
                    <a:xfrm>
                      <a:off x="4849560" y="4382640"/>
                      <a:ext cx="86508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Line 59"/>
                    <p:cNvSpPr/>
                    <p:nvPr/>
                  </p:nvSpPr>
                  <p:spPr>
                    <a:xfrm>
                      <a:off x="4597200" y="5253840"/>
                      <a:ext cx="0" cy="745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Line 59"/>
                <p:cNvSpPr/>
                <p:nvPr/>
              </p:nvSpPr>
              <p:spPr>
                <a:xfrm>
                  <a:off x="2487600" y="523044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4" name="Line 59"/>
            <p:cNvSpPr/>
            <p:nvPr/>
          </p:nvSpPr>
          <p:spPr>
            <a:xfrm>
              <a:off x="1357200" y="5254560"/>
              <a:ext cx="0" cy="7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1116000" y="2060640"/>
            <a:ext cx="2735280" cy="647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809640" y="5983200"/>
            <a:ext cx="778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果把裤子的价钱看作是单位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那么上衣的价钱是裤子的几分之几？应该怎样设未知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4657680" y="326700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336600" y="3232080"/>
            <a:ext cx="8370720" cy="6280200"/>
          </a:xfrm>
          <a:prstGeom prst="rect">
            <a:avLst/>
          </a:prstGeom>
          <a:ln w="0">
            <a:noFill/>
          </a:ln>
        </p:spPr>
      </p:pic>
      <p:sp>
        <p:nvSpPr>
          <p:cNvPr id="460" name="TextBox 46"/>
          <p:cNvSpPr/>
          <p:nvPr/>
        </p:nvSpPr>
        <p:spPr>
          <a:xfrm>
            <a:off x="34920" y="5972040"/>
            <a:ext cx="126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076720" y="3030480"/>
            <a:ext cx="367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衣价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裤子价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1280" y="2971800"/>
            <a:ext cx="154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4786200" y="30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973080" y="2976480"/>
            <a:ext cx="2735280" cy="7416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4514760" y="4427640"/>
            <a:ext cx="8371080" cy="6280200"/>
          </a:xfrm>
          <a:prstGeom prst="rect">
            <a:avLst/>
          </a:prstGeom>
          <a:ln w="0">
            <a:noFill/>
          </a:ln>
        </p:spPr>
      </p:pic>
      <p:sp>
        <p:nvSpPr>
          <p:cNvPr id="466" name="Line 70"/>
          <p:cNvSpPr/>
          <p:nvPr/>
        </p:nvSpPr>
        <p:spPr>
          <a:xfrm>
            <a:off x="1379520" y="4038480"/>
            <a:ext cx="0" cy="8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8"/>
          <p:cNvSpPr/>
          <p:nvPr/>
        </p:nvSpPr>
        <p:spPr>
          <a:xfrm>
            <a:off x="1405080" y="2827440"/>
            <a:ext cx="31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衣和裤子各多少钱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4"/>
          <p:cNvSpPr/>
          <p:nvPr/>
        </p:nvSpPr>
        <p:spPr>
          <a:xfrm>
            <a:off x="828720" y="1557360"/>
            <a:ext cx="72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6"/>
          <a:stretch/>
        </p:blipFill>
        <p:spPr>
          <a:xfrm>
            <a:off x="6427800" y="1266840"/>
            <a:ext cx="1673280" cy="1619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7"/>
          <a:stretch/>
        </p:blipFill>
        <p:spPr>
          <a:xfrm>
            <a:off x="4775040" y="1351080"/>
            <a:ext cx="1525680" cy="180000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5202360" y="3390840"/>
            <a:ext cx="3714480" cy="2397240"/>
            <a:chOff x="5202360" y="3390840"/>
            <a:chExt cx="3714480" cy="2397240"/>
          </a:xfrm>
        </p:grpSpPr>
        <p:sp>
          <p:nvSpPr>
            <p:cNvPr id="472" name="TextBox 22"/>
            <p:cNvSpPr/>
            <p:nvPr/>
          </p:nvSpPr>
          <p:spPr>
            <a:xfrm>
              <a:off x="5202360" y="3390840"/>
              <a:ext cx="371448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：设裤子的价钱为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元，则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衣的价钱为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7068960" y="3603600"/>
              <a:ext cx="510480" cy="778680"/>
              <a:chOff x="7068960" y="3603600"/>
              <a:chExt cx="510480" cy="778680"/>
            </a:xfrm>
          </p:grpSpPr>
          <p:sp>
            <p:nvSpPr>
              <p:cNvPr id="474" name=""/>
              <p:cNvSpPr/>
              <p:nvPr/>
            </p:nvSpPr>
            <p:spPr>
              <a:xfrm>
                <a:off x="7075080" y="395928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68960" y="360360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84440" y="402264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6719760" y="4025880"/>
              <a:ext cx="510480" cy="778680"/>
              <a:chOff x="6719760" y="4025880"/>
              <a:chExt cx="510480" cy="778680"/>
            </a:xfrm>
          </p:grpSpPr>
          <p:sp>
            <p:nvSpPr>
              <p:cNvPr id="478" name=""/>
              <p:cNvSpPr/>
              <p:nvPr/>
            </p:nvSpPr>
            <p:spPr>
              <a:xfrm>
                <a:off x="6725880" y="438156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19760" y="402588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35240" y="444492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706800" y="4667040"/>
              <a:ext cx="510480" cy="778680"/>
              <a:chOff x="6706800" y="4667040"/>
              <a:chExt cx="510480" cy="778680"/>
            </a:xfrm>
          </p:grpSpPr>
          <p:sp>
            <p:nvSpPr>
              <p:cNvPr id="482" name=""/>
              <p:cNvSpPr/>
              <p:nvPr/>
            </p:nvSpPr>
            <p:spPr>
              <a:xfrm>
                <a:off x="6712920" y="50227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6800" y="466704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22280" y="508608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AutoShape 27"/>
          <p:cNvSpPr/>
          <p:nvPr/>
        </p:nvSpPr>
        <p:spPr>
          <a:xfrm>
            <a:off x="1403280" y="1450800"/>
            <a:ext cx="3168720" cy="1224000"/>
          </a:xfrm>
          <a:prstGeom prst="wedgeRoundRectCallout">
            <a:avLst>
              <a:gd name="adj1" fmla="val 57666"/>
              <a:gd name="adj2" fmla="val 455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套运动服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裤子价钱是上衣的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693960" y="1895400"/>
            <a:ext cx="511200" cy="778680"/>
            <a:chOff x="3693960" y="1895400"/>
            <a:chExt cx="511200" cy="778680"/>
          </a:xfrm>
        </p:grpSpPr>
        <p:sp>
          <p:nvSpPr>
            <p:cNvPr id="487" name=""/>
            <p:cNvSpPr/>
            <p:nvPr/>
          </p:nvSpPr>
          <p:spPr>
            <a:xfrm>
              <a:off x="3700440" y="22510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93960" y="18954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09800" y="23144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104840" y="2362320"/>
            <a:ext cx="80391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九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228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42960" y="148428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看图回答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0"/>
          <p:cNvSpPr/>
          <p:nvPr/>
        </p:nvSpPr>
        <p:spPr>
          <a:xfrm>
            <a:off x="285840" y="3052800"/>
            <a:ext cx="1071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1"/>
          <p:cNvSpPr/>
          <p:nvPr/>
        </p:nvSpPr>
        <p:spPr>
          <a:xfrm>
            <a:off x="971640" y="3068640"/>
            <a:ext cx="807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图中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14280" y="2060640"/>
            <a:ext cx="5059440" cy="927720"/>
            <a:chOff x="1214280" y="2060640"/>
            <a:chExt cx="5059440" cy="927720"/>
          </a:xfrm>
        </p:grpSpPr>
        <p:sp>
          <p:nvSpPr>
            <p:cNvPr id="48" name="TextBox 3"/>
            <p:cNvSpPr/>
            <p:nvPr/>
          </p:nvSpPr>
          <p:spPr>
            <a:xfrm>
              <a:off x="1214280" y="2060640"/>
              <a:ext cx="128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女生人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4"/>
            <p:cNvSpPr/>
            <p:nvPr/>
          </p:nvSpPr>
          <p:spPr>
            <a:xfrm>
              <a:off x="1214280" y="2565360"/>
              <a:ext cx="128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男生人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700360" y="2781360"/>
              <a:ext cx="3573360" cy="144360"/>
              <a:chOff x="2700360" y="2781360"/>
              <a:chExt cx="3573360" cy="144360"/>
            </a:xfrm>
          </p:grpSpPr>
          <p:sp>
            <p:nvSpPr>
              <p:cNvPr id="51" name="直接连接符 6"/>
              <p:cNvSpPr/>
              <p:nvPr/>
            </p:nvSpPr>
            <p:spPr>
              <a:xfrm>
                <a:off x="2701080" y="2924280"/>
                <a:ext cx="357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接连接符 8"/>
              <p:cNvSpPr/>
              <p:nvPr/>
            </p:nvSpPr>
            <p:spPr>
              <a:xfrm flipH="1">
                <a:off x="2700360" y="278208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直接连接符 9"/>
              <p:cNvSpPr/>
              <p:nvPr/>
            </p:nvSpPr>
            <p:spPr>
              <a:xfrm flipH="1">
                <a:off x="34138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接连接符 10"/>
              <p:cNvSpPr/>
              <p:nvPr/>
            </p:nvSpPr>
            <p:spPr>
              <a:xfrm flipH="1">
                <a:off x="41284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接连接符 11"/>
              <p:cNvSpPr/>
              <p:nvPr/>
            </p:nvSpPr>
            <p:spPr>
              <a:xfrm flipH="1">
                <a:off x="48430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接连接符 12"/>
              <p:cNvSpPr/>
              <p:nvPr/>
            </p:nvSpPr>
            <p:spPr>
              <a:xfrm flipH="1">
                <a:off x="55576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13"/>
              <p:cNvSpPr/>
              <p:nvPr/>
            </p:nvSpPr>
            <p:spPr>
              <a:xfrm flipH="1">
                <a:off x="62722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700360" y="2205000"/>
              <a:ext cx="2858760" cy="322200"/>
              <a:chOff x="2700360" y="2205000"/>
              <a:chExt cx="2858760" cy="322200"/>
            </a:xfrm>
          </p:grpSpPr>
          <p:sp>
            <p:nvSpPr>
              <p:cNvPr id="59" name="直接连接符 15"/>
              <p:cNvSpPr/>
              <p:nvPr/>
            </p:nvSpPr>
            <p:spPr>
              <a:xfrm>
                <a:off x="2701080" y="2347560"/>
                <a:ext cx="285804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16"/>
              <p:cNvSpPr/>
              <p:nvPr/>
            </p:nvSpPr>
            <p:spPr>
              <a:xfrm flipH="1">
                <a:off x="270036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接连接符 17"/>
              <p:cNvSpPr/>
              <p:nvPr/>
            </p:nvSpPr>
            <p:spPr>
              <a:xfrm flipH="1">
                <a:off x="3413880" y="220500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接连接符 18"/>
              <p:cNvSpPr/>
              <p:nvPr/>
            </p:nvSpPr>
            <p:spPr>
              <a:xfrm flipH="1">
                <a:off x="412848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19"/>
              <p:cNvSpPr/>
              <p:nvPr/>
            </p:nvSpPr>
            <p:spPr>
              <a:xfrm flipH="1">
                <a:off x="484308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接连接符 20"/>
              <p:cNvSpPr/>
              <p:nvPr/>
            </p:nvSpPr>
            <p:spPr>
              <a:xfrm flipH="1">
                <a:off x="555768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16000" y="2311920"/>
                <a:ext cx="114120" cy="2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71640" y="3429000"/>
            <a:ext cx="8072280" cy="2380320"/>
            <a:chOff x="971640" y="3429000"/>
            <a:chExt cx="8072280" cy="2380320"/>
          </a:xfrm>
        </p:grpSpPr>
        <p:sp>
          <p:nvSpPr>
            <p:cNvPr id="68" name="TextBox 51"/>
            <p:cNvSpPr/>
            <p:nvPr/>
          </p:nvSpPr>
          <p:spPr>
            <a:xfrm>
              <a:off x="971640" y="3429000"/>
              <a:ext cx="807228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根据线段图，你能说说男、女生人数间的数量关系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男生人数与女生人数比较；女生人数是单位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把女生人数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均分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男生人数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；男生人数是女生人数的     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女生人数与男生人数比较；男生人数是单位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把男生人数平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女生人数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；女生人数是男生人数的      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267680" y="4210200"/>
              <a:ext cx="511200" cy="778320"/>
              <a:chOff x="7267680" y="4210200"/>
              <a:chExt cx="511200" cy="778320"/>
            </a:xfrm>
          </p:grpSpPr>
          <p:sp>
            <p:nvSpPr>
              <p:cNvPr id="70" name=""/>
              <p:cNvSpPr/>
              <p:nvPr/>
            </p:nvSpPr>
            <p:spPr>
              <a:xfrm>
                <a:off x="7274160" y="4565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267680" y="4210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283520" y="46288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059600" y="5030640"/>
              <a:ext cx="511200" cy="778680"/>
              <a:chOff x="7059600" y="5030640"/>
              <a:chExt cx="511200" cy="778680"/>
            </a:xfrm>
          </p:grpSpPr>
          <p:sp>
            <p:nvSpPr>
              <p:cNvPr id="74" name=""/>
              <p:cNvSpPr/>
              <p:nvPr/>
            </p:nvSpPr>
            <p:spPr>
              <a:xfrm>
                <a:off x="7066080" y="5386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59600" y="5030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075440" y="54496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1000080" y="5364000"/>
            <a:ext cx="8540640" cy="1343880"/>
            <a:chOff x="1000080" y="5364000"/>
            <a:chExt cx="8540640" cy="1343880"/>
          </a:xfrm>
        </p:grpSpPr>
        <p:sp>
          <p:nvSpPr>
            <p:cNvPr id="78" name="TextBox 51"/>
            <p:cNvSpPr/>
            <p:nvPr/>
          </p:nvSpPr>
          <p:spPr>
            <a:xfrm>
              <a:off x="1000080" y="5475240"/>
              <a:ext cx="8540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如果男生有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，女生有多少人？你是怎样得到的？（女生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。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如果女生有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，男生有多少人？你是怎样得到的？（男生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7873920" y="5364000"/>
              <a:ext cx="511200" cy="778680"/>
              <a:chOff x="7873920" y="5364000"/>
              <a:chExt cx="511200" cy="778680"/>
            </a:xfrm>
          </p:grpSpPr>
          <p:sp>
            <p:nvSpPr>
              <p:cNvPr id="80" name=""/>
              <p:cNvSpPr/>
              <p:nvPr/>
            </p:nvSpPr>
            <p:spPr>
              <a:xfrm>
                <a:off x="7880400" y="5719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873920" y="5364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89760" y="5783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878600" y="5929200"/>
              <a:ext cx="511200" cy="778680"/>
              <a:chOff x="7878600" y="5929200"/>
              <a:chExt cx="511200" cy="778680"/>
            </a:xfrm>
          </p:grpSpPr>
          <p:sp>
            <p:nvSpPr>
              <p:cNvPr id="84" name=""/>
              <p:cNvSpPr/>
              <p:nvPr/>
            </p:nvSpPr>
            <p:spPr>
              <a:xfrm>
                <a:off x="7885080" y="62848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878600" y="5929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894440" y="63482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52560" y="4503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8560" y="4719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阅读与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228600" y="4100400"/>
            <a:ext cx="100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900000" y="4114800"/>
            <a:ext cx="336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题目中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8371080" cy="6280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6"/>
          <p:cNvSpPr/>
          <p:nvPr/>
        </p:nvSpPr>
        <p:spPr>
          <a:xfrm>
            <a:off x="898560" y="5718240"/>
            <a:ext cx="792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道题怎样解答，请你根据题意画出线段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31760" y="1967040"/>
            <a:ext cx="4573800" cy="2158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70400" y="3673440"/>
            <a:ext cx="4035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上半场和下半场各得多少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00000" y="4510080"/>
            <a:ext cx="7848720" cy="1359720"/>
            <a:chOff x="900000" y="4510080"/>
            <a:chExt cx="7848720" cy="1359720"/>
          </a:xfrm>
        </p:grpSpPr>
        <p:sp>
          <p:nvSpPr>
            <p:cNvPr id="98" name="TextBox 36"/>
            <p:cNvSpPr/>
            <p:nvPr/>
          </p:nvSpPr>
          <p:spPr>
            <a:xfrm>
              <a:off x="900000" y="4510080"/>
              <a:ext cx="7848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怎样理解“下半场得分只有上半场的一半”这句话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下半场得分和上半场得分在比较；上半场得分看作单位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下半场得分是上半场的     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35440" y="5091120"/>
              <a:ext cx="511200" cy="778680"/>
              <a:chOff x="3835440" y="5091120"/>
              <a:chExt cx="511200" cy="778680"/>
            </a:xfrm>
          </p:grpSpPr>
          <p:sp>
            <p:nvSpPr>
              <p:cNvPr id="100" name=""/>
              <p:cNvSpPr/>
              <p:nvPr/>
            </p:nvSpPr>
            <p:spPr>
              <a:xfrm>
                <a:off x="3841920" y="5446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35440" y="5091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51280" y="5510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5"/>
          <p:cNvSpPr/>
          <p:nvPr/>
        </p:nvSpPr>
        <p:spPr>
          <a:xfrm>
            <a:off x="250920" y="5270400"/>
            <a:ext cx="144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6"/>
          <p:cNvSpPr/>
          <p:nvPr/>
        </p:nvSpPr>
        <p:spPr>
          <a:xfrm>
            <a:off x="965160" y="5276880"/>
            <a:ext cx="671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们能借助线段图找出一个等量关系式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6"/>
          <p:cNvSpPr/>
          <p:nvPr/>
        </p:nvSpPr>
        <p:spPr>
          <a:xfrm>
            <a:off x="965160" y="5686560"/>
            <a:ext cx="7891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半场和下半场的得分我们都不知道，那怎样设未知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3"/>
          <p:cNvSpPr/>
          <p:nvPr/>
        </p:nvSpPr>
        <p:spPr>
          <a:xfrm>
            <a:off x="4262400" y="1387440"/>
            <a:ext cx="450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上半场得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半场得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6"/>
          <p:cNvSpPr/>
          <p:nvPr/>
        </p:nvSpPr>
        <p:spPr>
          <a:xfrm>
            <a:off x="971640" y="6043680"/>
            <a:ext cx="7891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依据等量关系列方程并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280" y="2214720"/>
            <a:ext cx="5786280" cy="2548080"/>
            <a:chOff x="71280" y="2214720"/>
            <a:chExt cx="5786280" cy="2548080"/>
          </a:xfrm>
        </p:grpSpPr>
        <p:grpSp>
          <p:nvGrpSpPr>
            <p:cNvPr id="111" name=""/>
            <p:cNvGrpSpPr/>
            <p:nvPr/>
          </p:nvGrpSpPr>
          <p:grpSpPr>
            <a:xfrm>
              <a:off x="71280" y="2697120"/>
              <a:ext cx="5786280" cy="2065680"/>
              <a:chOff x="71280" y="2697120"/>
              <a:chExt cx="5786280" cy="20656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71280" y="2697120"/>
                <a:ext cx="4884840" cy="2065680"/>
                <a:chOff x="71280" y="2697120"/>
                <a:chExt cx="4884840" cy="20656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71280" y="2697120"/>
                  <a:ext cx="4884840" cy="2065680"/>
                  <a:chOff x="71280" y="2697120"/>
                  <a:chExt cx="4884840" cy="2065680"/>
                </a:xfrm>
              </p:grpSpPr>
              <p:pic>
                <p:nvPicPr>
                  <p:cNvPr id="114" name="右大括号 9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3133440"/>
                    <a:ext cx="3029040" cy="18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5" name="直接连接符 61"/>
                  <p:cNvSpPr/>
                  <p:nvPr/>
                </p:nvSpPr>
                <p:spPr>
                  <a:xfrm>
                    <a:off x="1655640" y="3411000"/>
                    <a:ext cx="150012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直接连接符 61"/>
                  <p:cNvSpPr/>
                  <p:nvPr/>
                </p:nvSpPr>
                <p:spPr>
                  <a:xfrm>
                    <a:off x="3155760" y="3411000"/>
                    <a:ext cx="150012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Box 34"/>
                  <p:cNvSpPr/>
                  <p:nvPr/>
                </p:nvSpPr>
                <p:spPr>
                  <a:xfrm>
                    <a:off x="71280" y="3142800"/>
                    <a:ext cx="2124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上半场得分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Box 34"/>
                  <p:cNvSpPr/>
                  <p:nvPr/>
                </p:nvSpPr>
                <p:spPr>
                  <a:xfrm>
                    <a:off x="71280" y="3900240"/>
                    <a:ext cx="2268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下半场得分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1652400" y="4179600"/>
                    <a:ext cx="1501920" cy="58320"/>
                    <a:chOff x="1652400" y="4179600"/>
                    <a:chExt cx="1501920" cy="58320"/>
                  </a:xfrm>
                </p:grpSpPr>
                <p:sp>
                  <p:nvSpPr>
                    <p:cNvPr id="120" name="直接连接符 61"/>
                    <p:cNvSpPr/>
                    <p:nvPr/>
                  </p:nvSpPr>
                  <p:spPr>
                    <a:xfrm>
                      <a:off x="1652400" y="4223880"/>
                      <a:ext cx="15012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直接连接符 62"/>
                    <p:cNvSpPr/>
                    <p:nvPr/>
                  </p:nvSpPr>
                  <p:spPr>
                    <a:xfrm flipH="1">
                      <a:off x="1652400" y="4179600"/>
                      <a:ext cx="720" cy="57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直接连接符 69"/>
                    <p:cNvSpPr/>
                    <p:nvPr/>
                  </p:nvSpPr>
                  <p:spPr>
                    <a:xfrm flipH="1">
                      <a:off x="3153600" y="4180320"/>
                      <a:ext cx="720" cy="57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" name="TextBox 74"/>
                  <p:cNvSpPr/>
                  <p:nvPr/>
                </p:nvSpPr>
                <p:spPr>
                  <a:xfrm>
                    <a:off x="2727000" y="2697120"/>
                    <a:ext cx="9288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4" name="右大括号 10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00520" y="3242880"/>
                    <a:ext cx="25560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TextBox 74"/>
                  <p:cNvSpPr/>
                  <p:nvPr/>
                </p:nvSpPr>
                <p:spPr>
                  <a:xfrm>
                    <a:off x="2823840" y="3553920"/>
                    <a:ext cx="9288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？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Box 74"/>
                  <p:cNvSpPr/>
                  <p:nvPr/>
                </p:nvSpPr>
                <p:spPr>
                  <a:xfrm>
                    <a:off x="2084400" y="4339800"/>
                    <a:ext cx="92844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？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2260440" y="3484080"/>
                    <a:ext cx="511200" cy="604800"/>
                    <a:chOff x="2260440" y="3484080"/>
                    <a:chExt cx="511200" cy="60480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2266920" y="3739320"/>
                      <a:ext cx="504720" cy="349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2260440" y="3484080"/>
                      <a:ext cx="360360" cy="349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2309760" y="3799800"/>
                      <a:ext cx="1792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31" name="右大括号 8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39800" y="3468240"/>
                  <a:ext cx="3029040" cy="17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右大括号 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39800" y="4279320"/>
                  <a:ext cx="154152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右大括号 9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39800" y="3992040"/>
                  <a:ext cx="1541520" cy="164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4" name=""/>
              <p:cNvGrpSpPr/>
              <p:nvPr/>
            </p:nvGrpSpPr>
            <p:grpSpPr>
              <a:xfrm>
                <a:off x="1652400" y="3339720"/>
                <a:ext cx="3000240" cy="56880"/>
                <a:chOff x="1652400" y="3339720"/>
                <a:chExt cx="3000240" cy="56880"/>
              </a:xfrm>
            </p:grpSpPr>
            <p:sp>
              <p:nvSpPr>
                <p:cNvPr id="135" name="直接连接符 31"/>
                <p:cNvSpPr/>
                <p:nvPr/>
              </p:nvSpPr>
              <p:spPr>
                <a:xfrm flipH="1">
                  <a:off x="1652400" y="3339720"/>
                  <a:ext cx="720" cy="56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直接连接符 41"/>
                <p:cNvSpPr/>
                <p:nvPr/>
              </p:nvSpPr>
              <p:spPr>
                <a:xfrm flipH="1">
                  <a:off x="3152160" y="3339720"/>
                  <a:ext cx="720" cy="56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直接连接符 48"/>
                <p:cNvSpPr/>
                <p:nvPr/>
              </p:nvSpPr>
              <p:spPr>
                <a:xfrm flipH="1">
                  <a:off x="4651920" y="3339720"/>
                  <a:ext cx="720" cy="56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TextBox 74"/>
              <p:cNvSpPr/>
              <p:nvPr/>
            </p:nvSpPr>
            <p:spPr>
              <a:xfrm>
                <a:off x="4929120" y="3531960"/>
                <a:ext cx="928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Box 42"/>
            <p:cNvSpPr/>
            <p:nvPr/>
          </p:nvSpPr>
          <p:spPr>
            <a:xfrm>
              <a:off x="214200" y="2214720"/>
              <a:ext cx="128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292720" y="1628640"/>
            <a:ext cx="4071960" cy="4045680"/>
            <a:chOff x="5292720" y="1628640"/>
            <a:chExt cx="4071960" cy="4045680"/>
          </a:xfrm>
        </p:grpSpPr>
        <p:sp>
          <p:nvSpPr>
            <p:cNvPr id="141" name="TextBox 28"/>
            <p:cNvSpPr/>
            <p:nvPr/>
          </p:nvSpPr>
          <p:spPr>
            <a:xfrm>
              <a:off x="5292720" y="1628640"/>
              <a:ext cx="4071960" cy="354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：设上半场得了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，则下半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得了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×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分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354720" y="2166840"/>
              <a:ext cx="511200" cy="778680"/>
              <a:chOff x="6354720" y="2166840"/>
              <a:chExt cx="511200" cy="778680"/>
            </a:xfrm>
          </p:grpSpPr>
          <p:sp>
            <p:nvSpPr>
              <p:cNvPr id="143" name=""/>
              <p:cNvSpPr/>
              <p:nvPr/>
            </p:nvSpPr>
            <p:spPr>
              <a:xfrm>
                <a:off x="6361200" y="2522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54720" y="2166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70560" y="25858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189480" y="2709720"/>
              <a:ext cx="511200" cy="778680"/>
              <a:chOff x="6189480" y="2709720"/>
              <a:chExt cx="511200" cy="778680"/>
            </a:xfrm>
          </p:grpSpPr>
          <p:sp>
            <p:nvSpPr>
              <p:cNvPr id="147" name=""/>
              <p:cNvSpPr/>
              <p:nvPr/>
            </p:nvSpPr>
            <p:spPr>
              <a:xfrm>
                <a:off x="6195960" y="3065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89480" y="2709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05320" y="3128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200640" y="3295440"/>
              <a:ext cx="511200" cy="778680"/>
              <a:chOff x="6200640" y="3295440"/>
              <a:chExt cx="511200" cy="778680"/>
            </a:xfrm>
          </p:grpSpPr>
          <p:sp>
            <p:nvSpPr>
              <p:cNvPr id="151" name=""/>
              <p:cNvSpPr/>
              <p:nvPr/>
            </p:nvSpPr>
            <p:spPr>
              <a:xfrm>
                <a:off x="6207120" y="36511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00640" y="32954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16480" y="37144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451640" y="3798720"/>
              <a:ext cx="511200" cy="778680"/>
              <a:chOff x="7451640" y="3798720"/>
              <a:chExt cx="511200" cy="778680"/>
            </a:xfrm>
          </p:grpSpPr>
          <p:sp>
            <p:nvSpPr>
              <p:cNvPr id="155" name=""/>
              <p:cNvSpPr/>
              <p:nvPr/>
            </p:nvSpPr>
            <p:spPr>
              <a:xfrm>
                <a:off x="7458120" y="4154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51640" y="3798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67480" y="4217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869160" y="4895640"/>
              <a:ext cx="511200" cy="778680"/>
              <a:chOff x="6869160" y="4895640"/>
              <a:chExt cx="511200" cy="778680"/>
            </a:xfrm>
          </p:grpSpPr>
          <p:sp>
            <p:nvSpPr>
              <p:cNvPr id="159" name=""/>
              <p:cNvSpPr/>
              <p:nvPr/>
            </p:nvSpPr>
            <p:spPr>
              <a:xfrm>
                <a:off x="6875640" y="5251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9160" y="4895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85000" y="53146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52560" y="4503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8560" y="4719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8"/>
          <p:cNvSpPr/>
          <p:nvPr/>
        </p:nvSpPr>
        <p:spPr>
          <a:xfrm>
            <a:off x="5156280" y="2265480"/>
            <a:ext cx="407196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：设下半场得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，则上半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得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 ÷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5"/>
          <p:cNvSpPr/>
          <p:nvPr/>
        </p:nvSpPr>
        <p:spPr>
          <a:xfrm>
            <a:off x="114480" y="5251320"/>
            <a:ext cx="136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36"/>
          <p:cNvSpPr/>
          <p:nvPr/>
        </p:nvSpPr>
        <p:spPr>
          <a:xfrm>
            <a:off x="826920" y="5276880"/>
            <a:ext cx="7820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设下半场得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，那么我们把谁看作是单位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6"/>
          <p:cNvSpPr/>
          <p:nvPr/>
        </p:nvSpPr>
        <p:spPr>
          <a:xfrm>
            <a:off x="826920" y="568152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把下半场得分看作单位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那么上半场得分是下半场的几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6"/>
          <p:cNvSpPr/>
          <p:nvPr/>
        </p:nvSpPr>
        <p:spPr>
          <a:xfrm>
            <a:off x="826920" y="611496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该怎样设未知数？说说你列的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427640" y="1844640"/>
            <a:ext cx="482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上半场得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半场得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1280" y="2214720"/>
            <a:ext cx="5786280" cy="2810520"/>
            <a:chOff x="71280" y="2214720"/>
            <a:chExt cx="5786280" cy="2810520"/>
          </a:xfrm>
        </p:grpSpPr>
        <p:grpSp>
          <p:nvGrpSpPr>
            <p:cNvPr id="173" name=""/>
            <p:cNvGrpSpPr/>
            <p:nvPr/>
          </p:nvGrpSpPr>
          <p:grpSpPr>
            <a:xfrm>
              <a:off x="71280" y="2214720"/>
              <a:ext cx="5786280" cy="2810520"/>
              <a:chOff x="71280" y="2214720"/>
              <a:chExt cx="5786280" cy="281052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71280" y="2214720"/>
                <a:ext cx="5786280" cy="2810520"/>
                <a:chOff x="71280" y="2214720"/>
                <a:chExt cx="5786280" cy="2810520"/>
              </a:xfrm>
            </p:grpSpPr>
            <p:sp>
              <p:nvSpPr>
                <p:cNvPr id="175" name="TextBox 34"/>
                <p:cNvSpPr/>
                <p:nvPr/>
              </p:nvSpPr>
              <p:spPr>
                <a:xfrm>
                  <a:off x="214200" y="2214720"/>
                  <a:ext cx="12859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预设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39"/>
                <p:cNvSpPr/>
                <p:nvPr/>
              </p:nvSpPr>
              <p:spPr>
                <a:xfrm>
                  <a:off x="2154960" y="2849760"/>
                  <a:ext cx="459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1280" y="3184560"/>
                  <a:ext cx="5786280" cy="1840680"/>
                  <a:chOff x="71280" y="3184560"/>
                  <a:chExt cx="5786280" cy="1840680"/>
                </a:xfrm>
              </p:grpSpPr>
              <p:pic>
                <p:nvPicPr>
                  <p:cNvPr id="178" name="右大括号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5920" y="4419720"/>
                    <a:ext cx="302292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9" name="右大括号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5920" y="4084560"/>
                    <a:ext cx="302292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1652400" y="4291200"/>
                    <a:ext cx="3002040" cy="56880"/>
                    <a:chOff x="1652400" y="4291200"/>
                    <a:chExt cx="3002040" cy="56880"/>
                  </a:xfrm>
                </p:grpSpPr>
                <p:sp>
                  <p:nvSpPr>
                    <p:cNvPr id="181" name="直接连接符 31"/>
                    <p:cNvSpPr/>
                    <p:nvPr/>
                  </p:nvSpPr>
                  <p:spPr>
                    <a:xfrm flipH="1">
                      <a:off x="1652400" y="4291200"/>
                      <a:ext cx="720" cy="56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直接连接符 41"/>
                    <p:cNvSpPr/>
                    <p:nvPr/>
                  </p:nvSpPr>
                  <p:spPr>
                    <a:xfrm flipH="1">
                      <a:off x="3152880" y="4291200"/>
                      <a:ext cx="720" cy="56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直接连接符 48"/>
                    <p:cNvSpPr/>
                    <p:nvPr/>
                  </p:nvSpPr>
                  <p:spPr>
                    <a:xfrm flipH="1">
                      <a:off x="4653720" y="4291200"/>
                      <a:ext cx="720" cy="56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4" name="TextBox 34"/>
                  <p:cNvSpPr/>
                  <p:nvPr/>
                </p:nvSpPr>
                <p:spPr>
                  <a:xfrm>
                    <a:off x="71280" y="4111560"/>
                    <a:ext cx="234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上半场得分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TextBox 34"/>
                  <p:cNvSpPr/>
                  <p:nvPr/>
                </p:nvSpPr>
                <p:spPr>
                  <a:xfrm>
                    <a:off x="71280" y="3184560"/>
                    <a:ext cx="234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下半场得分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1652400" y="3433680"/>
                    <a:ext cx="1501920" cy="58680"/>
                    <a:chOff x="1652400" y="3433680"/>
                    <a:chExt cx="1501920" cy="58680"/>
                  </a:xfrm>
                </p:grpSpPr>
                <p:sp>
                  <p:nvSpPr>
                    <p:cNvPr id="187" name="直接连接符 61"/>
                    <p:cNvSpPr/>
                    <p:nvPr/>
                  </p:nvSpPr>
                  <p:spPr>
                    <a:xfrm>
                      <a:off x="1652400" y="3478320"/>
                      <a:ext cx="15012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直接连接符 62"/>
                    <p:cNvSpPr/>
                    <p:nvPr/>
                  </p:nvSpPr>
                  <p:spPr>
                    <a:xfrm flipH="1">
                      <a:off x="1652400" y="343368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直接连接符 69"/>
                    <p:cNvSpPr/>
                    <p:nvPr/>
                  </p:nvSpPr>
                  <p:spPr>
                    <a:xfrm flipH="1">
                      <a:off x="3153600" y="343440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90" name="右大括号 7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0520" y="3322800"/>
                    <a:ext cx="25560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TextBox 74"/>
                  <p:cNvSpPr/>
                  <p:nvPr/>
                </p:nvSpPr>
                <p:spPr>
                  <a:xfrm>
                    <a:off x="4929120" y="3630600"/>
                    <a:ext cx="92844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2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TextBox 74"/>
                  <p:cNvSpPr/>
                  <p:nvPr/>
                </p:nvSpPr>
                <p:spPr>
                  <a:xfrm>
                    <a:off x="2714400" y="4602240"/>
                    <a:ext cx="9288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？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TextBox 74"/>
                  <p:cNvSpPr/>
                  <p:nvPr/>
                </p:nvSpPr>
                <p:spPr>
                  <a:xfrm>
                    <a:off x="2084400" y="3594240"/>
                    <a:ext cx="92844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？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Text Box 45"/>
                  <p:cNvSpPr/>
                  <p:nvPr/>
                </p:nvSpPr>
                <p:spPr>
                  <a:xfrm>
                    <a:off x="2906640" y="3660840"/>
                    <a:ext cx="86364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倍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95" name="右大括号 5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33320" y="3224520"/>
                <a:ext cx="154800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右大括号 61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9800" y="3505320"/>
                <a:ext cx="1536480" cy="1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直接连接符 61"/>
              <p:cNvSpPr/>
              <p:nvPr/>
            </p:nvSpPr>
            <p:spPr>
              <a:xfrm>
                <a:off x="1655640" y="4362480"/>
                <a:ext cx="15001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直接连接符 61"/>
            <p:cNvSpPr/>
            <p:nvPr/>
          </p:nvSpPr>
          <p:spPr>
            <a:xfrm>
              <a:off x="3155760" y="4362480"/>
              <a:ext cx="1500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2560" y="4503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8560" y="4719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5"/>
          <p:cNvSpPr/>
          <p:nvPr/>
        </p:nvSpPr>
        <p:spPr>
          <a:xfrm>
            <a:off x="214200" y="6062760"/>
            <a:ext cx="118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6"/>
          <p:cNvSpPr/>
          <p:nvPr/>
        </p:nvSpPr>
        <p:spPr>
          <a:xfrm>
            <a:off x="906480" y="6083280"/>
            <a:ext cx="8058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依据题意画出了相同的线段图，找到了相同的等量关系，为什么同学们列出的方程不一样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718160" y="1947960"/>
            <a:ext cx="4822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半场得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半场得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504720" y="1927080"/>
            <a:ext cx="507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上半场得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半场得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55640" y="2182680"/>
            <a:ext cx="4071960" cy="4045680"/>
            <a:chOff x="755640" y="2182680"/>
            <a:chExt cx="4071960" cy="4045680"/>
          </a:xfrm>
        </p:grpSpPr>
        <p:sp>
          <p:nvSpPr>
            <p:cNvPr id="207" name="TextBox 28"/>
            <p:cNvSpPr/>
            <p:nvPr/>
          </p:nvSpPr>
          <p:spPr>
            <a:xfrm>
              <a:off x="755640" y="2182680"/>
              <a:ext cx="4071960" cy="354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：设上半场得了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，则下半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得了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×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分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817640" y="2720880"/>
              <a:ext cx="511200" cy="778680"/>
              <a:chOff x="1817640" y="2720880"/>
              <a:chExt cx="511200" cy="778680"/>
            </a:xfrm>
          </p:grpSpPr>
          <p:sp>
            <p:nvSpPr>
              <p:cNvPr id="209" name=""/>
              <p:cNvSpPr/>
              <p:nvPr/>
            </p:nvSpPr>
            <p:spPr>
              <a:xfrm>
                <a:off x="1824120" y="30765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817640" y="27208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33480" y="31399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652400" y="3263760"/>
              <a:ext cx="511200" cy="778680"/>
              <a:chOff x="1652400" y="3263760"/>
              <a:chExt cx="511200" cy="778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658880" y="36194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52400" y="32637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68240" y="36828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663560" y="3849480"/>
              <a:ext cx="511200" cy="778680"/>
              <a:chOff x="1663560" y="3849480"/>
              <a:chExt cx="511200" cy="778680"/>
            </a:xfrm>
          </p:grpSpPr>
          <p:sp>
            <p:nvSpPr>
              <p:cNvPr id="217" name=""/>
              <p:cNvSpPr/>
              <p:nvPr/>
            </p:nvSpPr>
            <p:spPr>
              <a:xfrm>
                <a:off x="1670040" y="42051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63560" y="3849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79400" y="42685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914560" y="4352760"/>
              <a:ext cx="511200" cy="778680"/>
              <a:chOff x="2914560" y="4352760"/>
              <a:chExt cx="511200" cy="778680"/>
            </a:xfrm>
          </p:grpSpPr>
          <p:sp>
            <p:nvSpPr>
              <p:cNvPr id="221" name=""/>
              <p:cNvSpPr/>
              <p:nvPr/>
            </p:nvSpPr>
            <p:spPr>
              <a:xfrm>
                <a:off x="2921040" y="47084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14560" y="43527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30400" y="47718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332080" y="5449680"/>
              <a:ext cx="511200" cy="778680"/>
              <a:chOff x="2332080" y="5449680"/>
              <a:chExt cx="511200" cy="778680"/>
            </a:xfrm>
          </p:grpSpPr>
          <p:sp>
            <p:nvSpPr>
              <p:cNvPr id="225" name=""/>
              <p:cNvSpPr/>
              <p:nvPr/>
            </p:nvSpPr>
            <p:spPr>
              <a:xfrm>
                <a:off x="2338560" y="58053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32080" y="54496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7920" y="58687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TextBox 28"/>
          <p:cNvSpPr/>
          <p:nvPr/>
        </p:nvSpPr>
        <p:spPr>
          <a:xfrm>
            <a:off x="4981680" y="2355840"/>
            <a:ext cx="407196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设下半场得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则上半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得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 ÷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560" y="4503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8560" y="4719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三）回顾与反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214200" y="2316240"/>
            <a:ext cx="133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1000080" y="2313000"/>
            <a:ext cx="771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刚才同学们列出了两个不同的方程，分别求出了上、下半场的得分，那么对不对呢？可以怎样检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4760" y="3357720"/>
            <a:ext cx="4476600" cy="1323000"/>
            <a:chOff x="104760" y="3357720"/>
            <a:chExt cx="4476600" cy="1323000"/>
          </a:xfrm>
        </p:grpSpPr>
        <p:sp>
          <p:nvSpPr>
            <p:cNvPr id="237" name="TextBox 12"/>
            <p:cNvSpPr/>
            <p:nvPr/>
          </p:nvSpPr>
          <p:spPr>
            <a:xfrm>
              <a:off x="104760" y="3357720"/>
              <a:ext cx="1620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"/>
            <p:cNvSpPr/>
            <p:nvPr/>
          </p:nvSpPr>
          <p:spPr>
            <a:xfrm>
              <a:off x="223920" y="3773520"/>
              <a:ext cx="43574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看上、下半场的得分和是不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5"/>
            <p:cNvSpPr/>
            <p:nvPr/>
          </p:nvSpPr>
          <p:spPr>
            <a:xfrm>
              <a:off x="652320" y="4257720"/>
              <a:ext cx="3714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分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8371080" cy="62802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4500720" y="3317760"/>
            <a:ext cx="4493160" cy="1615320"/>
            <a:chOff x="4500720" y="3317760"/>
            <a:chExt cx="4493160" cy="1615320"/>
          </a:xfrm>
        </p:grpSpPr>
        <p:sp>
          <p:nvSpPr>
            <p:cNvPr id="242" name="TextBox 16"/>
            <p:cNvSpPr/>
            <p:nvPr/>
          </p:nvSpPr>
          <p:spPr>
            <a:xfrm>
              <a:off x="4500720" y="3317760"/>
              <a:ext cx="129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20"/>
            <p:cNvSpPr/>
            <p:nvPr/>
          </p:nvSpPr>
          <p:spPr>
            <a:xfrm>
              <a:off x="4786200" y="3746520"/>
              <a:ext cx="3999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看下半场得分是不是上半场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21"/>
            <p:cNvSpPr/>
            <p:nvPr/>
          </p:nvSpPr>
          <p:spPr>
            <a:xfrm>
              <a:off x="5072040" y="4317840"/>
              <a:ext cx="3714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÷28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8483400" y="3600360"/>
              <a:ext cx="510480" cy="778680"/>
              <a:chOff x="8483400" y="3600360"/>
              <a:chExt cx="510480" cy="778680"/>
            </a:xfrm>
          </p:grpSpPr>
          <p:sp>
            <p:nvSpPr>
              <p:cNvPr id="246" name=""/>
              <p:cNvSpPr/>
              <p:nvPr/>
            </p:nvSpPr>
            <p:spPr>
              <a:xfrm>
                <a:off x="8489520" y="39560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3400" y="36003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498880" y="40194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7513560" y="4154400"/>
              <a:ext cx="510480" cy="778680"/>
              <a:chOff x="7513560" y="4154400"/>
              <a:chExt cx="510480" cy="778680"/>
            </a:xfrm>
          </p:grpSpPr>
          <p:sp>
            <p:nvSpPr>
              <p:cNvPr id="250" name=""/>
              <p:cNvSpPr/>
              <p:nvPr/>
            </p:nvSpPr>
            <p:spPr>
              <a:xfrm>
                <a:off x="7519680" y="451008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3560" y="415440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29040" y="457344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6080" y="3417840"/>
            <a:ext cx="5715000" cy="2534400"/>
            <a:chOff x="46080" y="3417840"/>
            <a:chExt cx="5715000" cy="2534400"/>
          </a:xfrm>
        </p:grpSpPr>
        <p:grpSp>
          <p:nvGrpSpPr>
            <p:cNvPr id="255" name=""/>
            <p:cNvGrpSpPr/>
            <p:nvPr/>
          </p:nvGrpSpPr>
          <p:grpSpPr>
            <a:xfrm>
              <a:off x="46080" y="3417840"/>
              <a:ext cx="5715000" cy="2534400"/>
              <a:chOff x="46080" y="3417840"/>
              <a:chExt cx="5715000" cy="2534400"/>
            </a:xfrm>
          </p:grpSpPr>
          <p:sp>
            <p:nvSpPr>
              <p:cNvPr id="256" name="Text Box 8"/>
              <p:cNvSpPr/>
              <p:nvPr/>
            </p:nvSpPr>
            <p:spPr>
              <a:xfrm>
                <a:off x="4608720" y="4630680"/>
                <a:ext cx="1152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万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90"/>
              <p:cNvSpPr/>
              <p:nvPr/>
            </p:nvSpPr>
            <p:spPr>
              <a:xfrm>
                <a:off x="3336840" y="517212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92"/>
              <p:cNvSpPr/>
              <p:nvPr/>
            </p:nvSpPr>
            <p:spPr>
              <a:xfrm flipH="1">
                <a:off x="2168640" y="5165640"/>
                <a:ext cx="1440" cy="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93"/>
              <p:cNvSpPr/>
              <p:nvPr/>
            </p:nvSpPr>
            <p:spPr>
              <a:xfrm>
                <a:off x="3867120" y="5181480"/>
                <a:ext cx="0" cy="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直接连接符 94"/>
              <p:cNvSpPr/>
              <p:nvPr/>
            </p:nvSpPr>
            <p:spPr>
              <a:xfrm flipH="1">
                <a:off x="2745000" y="5156280"/>
                <a:ext cx="144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46080" y="3417840"/>
                <a:ext cx="4562640" cy="2534400"/>
                <a:chOff x="46080" y="3417840"/>
                <a:chExt cx="4562640" cy="2534400"/>
              </a:xfrm>
            </p:grpSpPr>
            <p:pic>
              <p:nvPicPr>
                <p:cNvPr id="2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41680" y="4429080"/>
                  <a:ext cx="274680" cy="57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3" name="TextBox 66"/>
                <p:cNvSpPr/>
                <p:nvPr/>
              </p:nvSpPr>
              <p:spPr>
                <a:xfrm>
                  <a:off x="2575080" y="3417840"/>
                  <a:ext cx="1035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TextBox 102"/>
                <p:cNvSpPr/>
                <p:nvPr/>
              </p:nvSpPr>
              <p:spPr>
                <a:xfrm>
                  <a:off x="46080" y="3836880"/>
                  <a:ext cx="248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下半年产量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TextBox 103"/>
                <p:cNvSpPr/>
                <p:nvPr/>
              </p:nvSpPr>
              <p:spPr>
                <a:xfrm>
                  <a:off x="46080" y="4930560"/>
                  <a:ext cx="1908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上半年产量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TextBox 69"/>
                <p:cNvSpPr/>
                <p:nvPr/>
              </p:nvSpPr>
              <p:spPr>
                <a:xfrm>
                  <a:off x="2581200" y="5529240"/>
                  <a:ext cx="10368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？万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7" name="左大括号 7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81200" y="5359320"/>
                  <a:ext cx="2182680" cy="19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TextBox 51"/>
                <p:cNvSpPr/>
                <p:nvPr/>
              </p:nvSpPr>
              <p:spPr>
                <a:xfrm>
                  <a:off x="2859120" y="4343400"/>
                  <a:ext cx="104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？万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1668240" y="4114800"/>
                  <a:ext cx="2735640" cy="95040"/>
                  <a:chOff x="1668240" y="4114800"/>
                  <a:chExt cx="2735640" cy="95040"/>
                </a:xfrm>
              </p:grpSpPr>
              <p:sp>
                <p:nvSpPr>
                  <p:cNvPr id="270" name="直接连接符 71"/>
                  <p:cNvSpPr/>
                  <p:nvPr/>
                </p:nvSpPr>
                <p:spPr>
                  <a:xfrm>
                    <a:off x="1669680" y="4209120"/>
                    <a:ext cx="273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直接连接符 72"/>
                  <p:cNvSpPr/>
                  <p:nvPr/>
                </p:nvSpPr>
                <p:spPr>
                  <a:xfrm flipH="1">
                    <a:off x="166824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直接连接符 73"/>
                  <p:cNvSpPr/>
                  <p:nvPr/>
                </p:nvSpPr>
                <p:spPr>
                  <a:xfrm flipH="1">
                    <a:off x="3855600" y="411480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直接连接符 74"/>
                  <p:cNvSpPr/>
                  <p:nvPr/>
                </p:nvSpPr>
                <p:spPr>
                  <a:xfrm flipH="1">
                    <a:off x="221508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直接连接符 75"/>
                  <p:cNvSpPr/>
                  <p:nvPr/>
                </p:nvSpPr>
                <p:spPr>
                  <a:xfrm flipH="1">
                    <a:off x="276192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直接连接符 76"/>
                  <p:cNvSpPr/>
                  <p:nvPr/>
                </p:nvSpPr>
                <p:spPr>
                  <a:xfrm flipH="1">
                    <a:off x="4402440" y="411480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直接连接符 77"/>
                  <p:cNvSpPr/>
                  <p:nvPr/>
                </p:nvSpPr>
                <p:spPr>
                  <a:xfrm flipH="1">
                    <a:off x="330912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直接连接符 88"/>
                <p:cNvSpPr/>
                <p:nvPr/>
              </p:nvSpPr>
              <p:spPr>
                <a:xfrm>
                  <a:off x="1677960" y="5267160"/>
                  <a:ext cx="2206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左大括号 110"/>
                <p:cNvSpPr/>
                <p:nvPr/>
              </p:nvSpPr>
              <p:spPr>
                <a:xfrm rot="16200000">
                  <a:off x="2972880" y="3010680"/>
                  <a:ext cx="95040" cy="2735280"/>
                </a:xfrm>
                <a:custGeom>
                  <a:avLst/>
                  <a:gdLst>
                    <a:gd name="textAreaLeft" fmla="*/ 60840 w 95040"/>
                    <a:gd name="textAreaRight" fmla="*/ 95400 w 95040"/>
                    <a:gd name="textAreaTop" fmla="*/ 11520 h 2735280"/>
                    <a:gd name="textAreaBottom" fmla="*/ 2723760 h 273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146"/>
                        <a:pt x="10800" y="291"/>
                      </a:cubicBezTo>
                      <a:lnTo>
                        <a:pt x="10800" y="10509"/>
                      </a:lnTo>
                      <a:cubicBezTo>
                        <a:pt x="10800" y="10655"/>
                        <a:pt x="5400" y="10800"/>
                        <a:pt x="0" y="10800"/>
                      </a:cubicBezTo>
                      <a:cubicBezTo>
                        <a:pt x="5400" y="10800"/>
                        <a:pt x="10800" y="10946"/>
                        <a:pt x="10800" y="11091"/>
                      </a:cubicBezTo>
                      <a:lnTo>
                        <a:pt x="10800" y="21309"/>
                      </a:lnTo>
                      <a:cubicBezTo>
                        <a:pt x="10800" y="21455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32"/>
                <p:cNvSpPr/>
                <p:nvPr/>
              </p:nvSpPr>
              <p:spPr>
                <a:xfrm>
                  <a:off x="4465800" y="4257720"/>
                  <a:ext cx="142920" cy="1152360"/>
                </a:xfrm>
                <a:custGeom>
                  <a:avLst/>
                  <a:gdLst>
                    <a:gd name="textAreaLeft" fmla="*/ 0 w 142920"/>
                    <a:gd name="textAreaRight" fmla="*/ 51480 w 142920"/>
                    <a:gd name="textAreaTop" fmla="*/ 29880 h 1152360"/>
                    <a:gd name="textAreaBottom" fmla="*/ 1122480 h 115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33"/>
                <p:cNvSpPr/>
                <p:nvPr/>
              </p:nvSpPr>
              <p:spPr>
                <a:xfrm rot="16200000">
                  <a:off x="2707560" y="3942360"/>
                  <a:ext cx="104760" cy="2144520"/>
                </a:xfrm>
                <a:custGeom>
                  <a:avLst/>
                  <a:gdLst>
                    <a:gd name="textAreaLeft" fmla="*/ 0 w 104760"/>
                    <a:gd name="textAreaRight" fmla="*/ 37800 w 104760"/>
                    <a:gd name="textAreaTop" fmla="*/ 55800 h 2144520"/>
                    <a:gd name="textAreaBottom" fmla="*/ 2088720 h 214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AutoShape 105"/>
            <p:cNvSpPr/>
            <p:nvPr/>
          </p:nvSpPr>
          <p:spPr>
            <a:xfrm rot="16200000">
              <a:off x="2941560" y="2566440"/>
              <a:ext cx="142920" cy="266400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69480 h 2664000"/>
                <a:gd name="textAreaBottom" fmla="*/ 259452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91"/>
            <p:cNvSpPr/>
            <p:nvPr/>
          </p:nvSpPr>
          <p:spPr>
            <a:xfrm flipH="1">
              <a:off x="1665360" y="5156280"/>
              <a:ext cx="144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7"/>
          <p:cNvSpPr/>
          <p:nvPr/>
        </p:nvSpPr>
        <p:spPr>
          <a:xfrm>
            <a:off x="4680000" y="3213000"/>
            <a:ext cx="435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半年产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半年产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全年产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250920" y="310500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11280" y="1557360"/>
            <a:ext cx="5761080" cy="1366920"/>
            <a:chOff x="611280" y="1557360"/>
            <a:chExt cx="5761080" cy="1366920"/>
          </a:xfrm>
        </p:grpSpPr>
        <p:sp>
          <p:nvSpPr>
            <p:cNvPr id="286" name="Text Box 51"/>
            <p:cNvSpPr/>
            <p:nvPr/>
          </p:nvSpPr>
          <p:spPr>
            <a:xfrm>
              <a:off x="611280" y="1557360"/>
              <a:ext cx="576108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某电视厂去年全年生产电视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万台，其中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半年产量是下半年的     。这个电视机厂去年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半年和下半年的产量分别是多少万台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321000" y="1911240"/>
              <a:ext cx="511200" cy="778680"/>
              <a:chOff x="3321000" y="1911240"/>
              <a:chExt cx="511200" cy="778680"/>
            </a:xfrm>
          </p:grpSpPr>
          <p:sp>
            <p:nvSpPr>
              <p:cNvPr id="288" name=""/>
              <p:cNvSpPr/>
              <p:nvPr/>
            </p:nvSpPr>
            <p:spPr>
              <a:xfrm>
                <a:off x="3327480" y="22669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321000" y="19112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36840" y="23302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5126040" y="3656160"/>
            <a:ext cx="3714840" cy="2959200"/>
            <a:chOff x="5126040" y="3656160"/>
            <a:chExt cx="3714840" cy="2959200"/>
          </a:xfrm>
        </p:grpSpPr>
        <p:sp>
          <p:nvSpPr>
            <p:cNvPr id="292" name="TextBox 22"/>
            <p:cNvSpPr/>
            <p:nvPr/>
          </p:nvSpPr>
          <p:spPr>
            <a:xfrm>
              <a:off x="5126040" y="3656160"/>
              <a:ext cx="371484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：设下半年生产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万台，则上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半年生产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万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 ×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万台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786720" y="3868560"/>
              <a:ext cx="511200" cy="778320"/>
              <a:chOff x="6786720" y="3868560"/>
              <a:chExt cx="511200" cy="778320"/>
            </a:xfrm>
          </p:grpSpPr>
          <p:sp>
            <p:nvSpPr>
              <p:cNvPr id="294" name=""/>
              <p:cNvSpPr/>
              <p:nvPr/>
            </p:nvSpPr>
            <p:spPr>
              <a:xfrm>
                <a:off x="6793200" y="42238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86720" y="3868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02560" y="42872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354720" y="4290840"/>
              <a:ext cx="511200" cy="778320"/>
              <a:chOff x="6354720" y="4290840"/>
              <a:chExt cx="511200" cy="778320"/>
            </a:xfrm>
          </p:grpSpPr>
          <p:sp>
            <p:nvSpPr>
              <p:cNvPr id="298" name=""/>
              <p:cNvSpPr/>
              <p:nvPr/>
            </p:nvSpPr>
            <p:spPr>
              <a:xfrm>
                <a:off x="6361200" y="46461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54720" y="4290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370560" y="47095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350040" y="4889160"/>
              <a:ext cx="511200" cy="778320"/>
              <a:chOff x="6350040" y="4889160"/>
              <a:chExt cx="511200" cy="778320"/>
            </a:xfrm>
          </p:grpSpPr>
          <p:sp>
            <p:nvSpPr>
              <p:cNvPr id="302" name=""/>
              <p:cNvSpPr/>
              <p:nvPr/>
            </p:nvSpPr>
            <p:spPr>
              <a:xfrm>
                <a:off x="6356520" y="52444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50040" y="4889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65880" y="53078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6742080" y="5837040"/>
              <a:ext cx="511200" cy="778320"/>
              <a:chOff x="6742080" y="5837040"/>
              <a:chExt cx="511200" cy="778320"/>
            </a:xfrm>
          </p:grpSpPr>
          <p:sp>
            <p:nvSpPr>
              <p:cNvPr id="306" name=""/>
              <p:cNvSpPr/>
              <p:nvPr/>
            </p:nvSpPr>
            <p:spPr>
              <a:xfrm>
                <a:off x="6748560" y="61923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42080" y="58370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57920" y="62557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1917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0"/>
          <p:cNvSpPr/>
          <p:nvPr/>
        </p:nvSpPr>
        <p:spPr>
          <a:xfrm>
            <a:off x="961920" y="6022800"/>
            <a:ext cx="789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果把上半年的产量看作是单位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那么下半年的产量是上半年的几分之几？应该怎样设未知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9"/>
          <p:cNvSpPr/>
          <p:nvPr/>
        </p:nvSpPr>
        <p:spPr>
          <a:xfrm>
            <a:off x="176040" y="5999040"/>
            <a:ext cx="1478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5"/>
          <p:cNvSpPr/>
          <p:nvPr/>
        </p:nvSpPr>
        <p:spPr>
          <a:xfrm>
            <a:off x="4680000" y="2852640"/>
            <a:ext cx="435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半年产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半年产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全年产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6"/>
          <p:cNvSpPr/>
          <p:nvPr/>
        </p:nvSpPr>
        <p:spPr>
          <a:xfrm>
            <a:off x="250920" y="306540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42920" y="3373560"/>
            <a:ext cx="5857920" cy="2445480"/>
            <a:chOff x="142920" y="3373560"/>
            <a:chExt cx="5857920" cy="2445480"/>
          </a:xfrm>
        </p:grpSpPr>
        <p:grpSp>
          <p:nvGrpSpPr>
            <p:cNvPr id="316" name=""/>
            <p:cNvGrpSpPr/>
            <p:nvPr/>
          </p:nvGrpSpPr>
          <p:grpSpPr>
            <a:xfrm>
              <a:off x="142920" y="3373560"/>
              <a:ext cx="5857920" cy="2096640"/>
              <a:chOff x="142920" y="3373560"/>
              <a:chExt cx="5857920" cy="2096640"/>
            </a:xfrm>
          </p:grpSpPr>
          <p:sp>
            <p:nvSpPr>
              <p:cNvPr id="317" name="Text Box 8"/>
              <p:cNvSpPr/>
              <p:nvPr/>
            </p:nvSpPr>
            <p:spPr>
              <a:xfrm>
                <a:off x="4776840" y="4293360"/>
                <a:ext cx="1224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万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Box 66"/>
              <p:cNvSpPr/>
              <p:nvPr/>
            </p:nvSpPr>
            <p:spPr>
              <a:xfrm>
                <a:off x="2435400" y="3373560"/>
                <a:ext cx="1057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102"/>
              <p:cNvSpPr/>
              <p:nvPr/>
            </p:nvSpPr>
            <p:spPr>
              <a:xfrm>
                <a:off x="142920" y="4971240"/>
                <a:ext cx="2197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下半年产量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103"/>
              <p:cNvSpPr/>
              <p:nvPr/>
            </p:nvSpPr>
            <p:spPr>
              <a:xfrm>
                <a:off x="142920" y="3798720"/>
                <a:ext cx="1981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上半年产量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Box 69"/>
              <p:cNvSpPr/>
              <p:nvPr/>
            </p:nvSpPr>
            <p:spPr>
              <a:xfrm>
                <a:off x="2357640" y="4293360"/>
                <a:ext cx="1108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？万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2" name="左大括号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9480" y="4176360"/>
                <a:ext cx="2183040" cy="195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3" name=""/>
              <p:cNvGrpSpPr/>
              <p:nvPr/>
            </p:nvGrpSpPr>
            <p:grpSpPr>
              <a:xfrm>
                <a:off x="1828800" y="5174280"/>
                <a:ext cx="2739600" cy="96120"/>
                <a:chOff x="1828800" y="5174280"/>
                <a:chExt cx="2739600" cy="96120"/>
              </a:xfrm>
            </p:grpSpPr>
            <p:sp>
              <p:nvSpPr>
                <p:cNvPr id="324" name="直接连接符 71"/>
                <p:cNvSpPr/>
                <p:nvPr/>
              </p:nvSpPr>
              <p:spPr>
                <a:xfrm flipV="1">
                  <a:off x="1828800" y="5269320"/>
                  <a:ext cx="2733480" cy="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直接连接符 72"/>
                <p:cNvSpPr/>
                <p:nvPr/>
              </p:nvSpPr>
              <p:spPr>
                <a:xfrm flipH="1">
                  <a:off x="1836360" y="5174640"/>
                  <a:ext cx="1080" cy="9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直接连接符 73"/>
                <p:cNvSpPr/>
                <p:nvPr/>
              </p:nvSpPr>
              <p:spPr>
                <a:xfrm flipH="1">
                  <a:off x="4020840" y="5174280"/>
                  <a:ext cx="1080" cy="9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直接连接符 74"/>
                <p:cNvSpPr/>
                <p:nvPr/>
              </p:nvSpPr>
              <p:spPr>
                <a:xfrm flipH="1">
                  <a:off x="2382480" y="5174640"/>
                  <a:ext cx="1080" cy="9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直接连接符 75"/>
                <p:cNvSpPr/>
                <p:nvPr/>
              </p:nvSpPr>
              <p:spPr>
                <a:xfrm flipH="1">
                  <a:off x="2928960" y="5174640"/>
                  <a:ext cx="1080" cy="9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直接连接符 76"/>
                <p:cNvSpPr/>
                <p:nvPr/>
              </p:nvSpPr>
              <p:spPr>
                <a:xfrm flipH="1">
                  <a:off x="4567320" y="5174280"/>
                  <a:ext cx="1080" cy="9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直接连接符 77"/>
                <p:cNvSpPr/>
                <p:nvPr/>
              </p:nvSpPr>
              <p:spPr>
                <a:xfrm flipH="1">
                  <a:off x="3475440" y="5174640"/>
                  <a:ext cx="1080" cy="9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直接连接符 88"/>
              <p:cNvSpPr/>
              <p:nvPr/>
            </p:nvSpPr>
            <p:spPr>
              <a:xfrm>
                <a:off x="1774800" y="4082040"/>
                <a:ext cx="220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左大括号 110"/>
              <p:cNvSpPr/>
              <p:nvPr/>
            </p:nvSpPr>
            <p:spPr>
              <a:xfrm rot="16200000">
                <a:off x="3142080" y="4054680"/>
                <a:ext cx="95760" cy="2735280"/>
              </a:xfrm>
              <a:custGeom>
                <a:avLst/>
                <a:gdLst>
                  <a:gd name="textAreaLeft" fmla="*/ 61200 w 95760"/>
                  <a:gd name="textAreaRight" fmla="*/ 96120 w 95760"/>
                  <a:gd name="textAreaTop" fmla="*/ 11520 h 2735280"/>
                  <a:gd name="textAreaBottom" fmla="*/ 2723760 h 273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46"/>
                      <a:pt x="10800" y="291"/>
                    </a:cubicBezTo>
                    <a:lnTo>
                      <a:pt x="10800" y="10509"/>
                    </a:lnTo>
                    <a:cubicBezTo>
                      <a:pt x="10800" y="10655"/>
                      <a:pt x="5400" y="10800"/>
                      <a:pt x="0" y="10800"/>
                    </a:cubicBezTo>
                    <a:cubicBezTo>
                      <a:pt x="5400" y="10800"/>
                      <a:pt x="10800" y="10946"/>
                      <a:pt x="10800" y="11091"/>
                    </a:cubicBezTo>
                    <a:lnTo>
                      <a:pt x="10800" y="21309"/>
                    </a:lnTo>
                    <a:cubicBezTo>
                      <a:pt x="10800" y="21455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32"/>
              <p:cNvSpPr/>
              <p:nvPr/>
            </p:nvSpPr>
            <p:spPr>
              <a:xfrm>
                <a:off x="4633920" y="3923640"/>
                <a:ext cx="152280" cy="13770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2040 h 1377000"/>
                  <a:gd name="textAreaBottom" fmla="*/ 1344960 h 137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10"/>
                      <a:pt x="10800" y="1619"/>
                    </a:cubicBezTo>
                    <a:lnTo>
                      <a:pt x="10800" y="9181"/>
                    </a:lnTo>
                    <a:cubicBezTo>
                      <a:pt x="10800" y="9991"/>
                      <a:pt x="16200" y="10800"/>
                      <a:pt x="21600" y="10800"/>
                    </a:cubicBezTo>
                    <a:cubicBezTo>
                      <a:pt x="16200" y="10800"/>
                      <a:pt x="10800" y="11610"/>
                      <a:pt x="10800" y="12419"/>
                    </a:cubicBezTo>
                    <a:lnTo>
                      <a:pt x="10800" y="19981"/>
                    </a:lnTo>
                    <a:cubicBezTo>
                      <a:pt x="10800" y="2079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33"/>
              <p:cNvSpPr/>
              <p:nvPr/>
            </p:nvSpPr>
            <p:spPr>
              <a:xfrm rot="16200000">
                <a:off x="2804040" y="2769480"/>
                <a:ext cx="105480" cy="2144520"/>
              </a:xfrm>
              <a:custGeom>
                <a:avLst/>
                <a:gdLst>
                  <a:gd name="textAreaLeft" fmla="*/ 0 w 105480"/>
                  <a:gd name="textAreaRight" fmla="*/ 38160 w 105480"/>
                  <a:gd name="textAreaTop" fmla="*/ 55800 h 2144520"/>
                  <a:gd name="textAreaBottom" fmla="*/ 2088720 h 214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utoShape 33"/>
              <p:cNvSpPr/>
              <p:nvPr/>
            </p:nvSpPr>
            <p:spPr>
              <a:xfrm rot="16200000">
                <a:off x="3109320" y="3685680"/>
                <a:ext cx="177480" cy="2716200"/>
              </a:xfrm>
              <a:custGeom>
                <a:avLst/>
                <a:gdLst>
                  <a:gd name="textAreaLeft" fmla="*/ 0 w 177480"/>
                  <a:gd name="textAreaRight" fmla="*/ 64080 w 177480"/>
                  <a:gd name="textAreaTop" fmla="*/ 93960 h 2716200"/>
                  <a:gd name="textAreaBottom" fmla="*/ 2622240 h 271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195"/>
                      <a:pt x="10800" y="2390"/>
                    </a:cubicBezTo>
                    <a:lnTo>
                      <a:pt x="10800" y="8410"/>
                    </a:lnTo>
                    <a:cubicBezTo>
                      <a:pt x="10800" y="9605"/>
                      <a:pt x="16200" y="10800"/>
                      <a:pt x="21600" y="10800"/>
                    </a:cubicBezTo>
                    <a:cubicBezTo>
                      <a:pt x="16200" y="10800"/>
                      <a:pt x="10800" y="11995"/>
                      <a:pt x="10800" y="13190"/>
                    </a:cubicBezTo>
                    <a:lnTo>
                      <a:pt x="10800" y="19210"/>
                    </a:lnTo>
                    <a:cubicBezTo>
                      <a:pt x="10800" y="20405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97160" y="4509000"/>
                <a:ext cx="241560" cy="50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7" name="TextBox 51"/>
            <p:cNvSpPr/>
            <p:nvPr/>
          </p:nvSpPr>
          <p:spPr>
            <a:xfrm>
              <a:off x="2857680" y="5396040"/>
              <a:ext cx="1116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？万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90"/>
            <p:cNvSpPr/>
            <p:nvPr/>
          </p:nvSpPr>
          <p:spPr>
            <a:xfrm>
              <a:off x="3433680" y="3981600"/>
              <a:ext cx="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91"/>
            <p:cNvSpPr/>
            <p:nvPr/>
          </p:nvSpPr>
          <p:spPr>
            <a:xfrm flipH="1">
              <a:off x="1762200" y="3963960"/>
              <a:ext cx="144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92"/>
            <p:cNvSpPr/>
            <p:nvPr/>
          </p:nvSpPr>
          <p:spPr>
            <a:xfrm flipH="1">
              <a:off x="2265480" y="3973680"/>
              <a:ext cx="144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93"/>
            <p:cNvSpPr/>
            <p:nvPr/>
          </p:nvSpPr>
          <p:spPr>
            <a:xfrm>
              <a:off x="3963960" y="3990960"/>
              <a:ext cx="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94"/>
            <p:cNvSpPr/>
            <p:nvPr/>
          </p:nvSpPr>
          <p:spPr>
            <a:xfrm flipH="1">
              <a:off x="2841840" y="3963960"/>
              <a:ext cx="144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11280" y="1512720"/>
            <a:ext cx="5761080" cy="1366920"/>
            <a:chOff x="611280" y="1512720"/>
            <a:chExt cx="5761080" cy="1366920"/>
          </a:xfrm>
        </p:grpSpPr>
        <p:sp>
          <p:nvSpPr>
            <p:cNvPr id="344" name="Text Box 51"/>
            <p:cNvSpPr/>
            <p:nvPr/>
          </p:nvSpPr>
          <p:spPr>
            <a:xfrm>
              <a:off x="611280" y="1512720"/>
              <a:ext cx="576108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某电视厂去年全年生产电视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万台，其中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半年产量是下半年的     。这个电视机厂去年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半年和下半年的产量分别是多少万台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321000" y="1866600"/>
              <a:ext cx="511200" cy="778680"/>
              <a:chOff x="3321000" y="1866600"/>
              <a:chExt cx="511200" cy="778680"/>
            </a:xfrm>
          </p:grpSpPr>
          <p:sp>
            <p:nvSpPr>
              <p:cNvPr id="346" name=""/>
              <p:cNvSpPr/>
              <p:nvPr/>
            </p:nvSpPr>
            <p:spPr>
              <a:xfrm>
                <a:off x="3327480" y="22222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21000" y="18666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36840" y="22856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4932360" y="3243240"/>
            <a:ext cx="4464000" cy="2699280"/>
            <a:chOff x="4932360" y="3243240"/>
            <a:chExt cx="4464000" cy="2699280"/>
          </a:xfrm>
        </p:grpSpPr>
        <p:sp>
          <p:nvSpPr>
            <p:cNvPr id="350" name="TextBox 22"/>
            <p:cNvSpPr/>
            <p:nvPr/>
          </p:nvSpPr>
          <p:spPr>
            <a:xfrm>
              <a:off x="4932360" y="3243240"/>
              <a:ext cx="4464000" cy="26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：设上半年生产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万台，则下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年生产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万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万台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350040" y="3535200"/>
              <a:ext cx="511200" cy="778680"/>
              <a:chOff x="6350040" y="3535200"/>
              <a:chExt cx="511200" cy="778680"/>
            </a:xfrm>
          </p:grpSpPr>
          <p:sp>
            <p:nvSpPr>
              <p:cNvPr id="352" name=""/>
              <p:cNvSpPr/>
              <p:nvPr/>
            </p:nvSpPr>
            <p:spPr>
              <a:xfrm>
                <a:off x="6356520" y="38908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50040" y="3535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365880" y="39542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6432480" y="4084560"/>
              <a:ext cx="511200" cy="778680"/>
              <a:chOff x="6432480" y="4084560"/>
              <a:chExt cx="511200" cy="778680"/>
            </a:xfrm>
          </p:grpSpPr>
          <p:sp>
            <p:nvSpPr>
              <p:cNvPr id="356" name=""/>
              <p:cNvSpPr/>
              <p:nvPr/>
            </p:nvSpPr>
            <p:spPr>
              <a:xfrm>
                <a:off x="6438960" y="44402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32480" y="4084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48320" y="4503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6438960" y="4687920"/>
              <a:ext cx="511200" cy="778680"/>
              <a:chOff x="6438960" y="4687920"/>
              <a:chExt cx="511200" cy="778680"/>
            </a:xfrm>
          </p:grpSpPr>
          <p:sp>
            <p:nvSpPr>
              <p:cNvPr id="360" name=""/>
              <p:cNvSpPr/>
              <p:nvPr/>
            </p:nvSpPr>
            <p:spPr>
              <a:xfrm>
                <a:off x="6445440" y="50436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38960" y="46879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54800" y="51069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1917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46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